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3EB8-3F0D-4DFD-90D6-6669A2A38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2BB3-3F57-4A41-83F2-3203928B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AAC-22C9-4A27-90AC-4FFF7E467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0FDC-DE26-4D62-943F-114A54565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6A2C-428A-4BAD-9AAC-AFF49F3B1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034-2001-41C6-BBFE-718A7270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B24-DD31-471A-9364-B309687E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897-A045-4B47-81AF-BA9E1C22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6AE3-2BE7-4207-874D-8FB23C70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5F7-27F7-4975-92B7-58147B59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673A-E561-49AF-BF3C-7876AE72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CAF-C910-419E-81BD-EB711815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A10-530F-4B51-90EA-A7AEFE9A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B2F-BD49-47AC-A288-4C806EEC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3F3-1B75-4D75-9139-A9BCCA13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A96-3D8D-4CD9-BAEB-2A661FB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686-51A2-4B44-80C3-81A8338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84D1-43D3-4E7A-9058-278336856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8382240" cy="3352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CIENCE 8 UNIT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it Objec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know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lesson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derstan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th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 able t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4495680"/>
            <a:ext cx="8305920" cy="21337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ies Used in this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5880" y="0"/>
            <a:ext cx="2667240" cy="83232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acher: Sandra Dun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ton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lton, W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57200" y="274680"/>
            <a:ext cx="8229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Out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609480"/>
          <a:ext cx="8381880" cy="605484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Line 1040"/>
          <p:cNvSpPr/>
          <p:nvPr/>
        </p:nvSpPr>
        <p:spPr>
          <a:xfrm>
            <a:off x="228600" y="685800"/>
            <a:ext cx="8594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72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74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76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80"/>
          <p:cNvSpPr/>
          <p:nvPr/>
        </p:nvSpPr>
        <p:spPr>
          <a:xfrm>
            <a:off x="147600" y="4772160"/>
            <a:ext cx="2509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000"/>
            </a:br>
            <a:br>
              <a:rPr sz="1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84"/>
          <p:cNvSpPr/>
          <p:nvPr/>
        </p:nvSpPr>
        <p:spPr>
          <a:xfrm>
            <a:off x="304920" y="152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85"/>
          <p:cNvSpPr/>
          <p:nvPr/>
        </p:nvSpPr>
        <p:spPr>
          <a:xfrm>
            <a:off x="304920" y="152280"/>
            <a:ext cx="8458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ition Lesson Planning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 for the Concept, Topic, or Skill --- Not for the 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97"/>
          <p:cNvSpPr/>
          <p:nvPr/>
        </p:nvSpPr>
        <p:spPr>
          <a:xfrm>
            <a:off x="2209680" y="990720"/>
            <a:ext cx="6553440" cy="38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99"/>
          <p:cNvSpPr/>
          <p:nvPr/>
        </p:nvSpPr>
        <p:spPr>
          <a:xfrm>
            <a:off x="2209680" y="14479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00"/>
          <p:cNvSpPr/>
          <p:nvPr/>
        </p:nvSpPr>
        <p:spPr>
          <a:xfrm>
            <a:off x="2209680" y="144792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01"/>
          <p:cNvSpPr/>
          <p:nvPr/>
        </p:nvSpPr>
        <p:spPr>
          <a:xfrm>
            <a:off x="2209680" y="2286000"/>
            <a:ext cx="6553440" cy="2871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02"/>
          <p:cNvSpPr/>
          <p:nvPr/>
        </p:nvSpPr>
        <p:spPr>
          <a:xfrm>
            <a:off x="2209680" y="517356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03"/>
          <p:cNvSpPr/>
          <p:nvPr/>
        </p:nvSpPr>
        <p:spPr>
          <a:xfrm>
            <a:off x="380880" y="990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ential Ques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04"/>
          <p:cNvSpPr/>
          <p:nvPr/>
        </p:nvSpPr>
        <p:spPr>
          <a:xfrm>
            <a:off x="380880" y="14479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ivating    Strate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5"/>
          <p:cNvSpPr/>
          <p:nvPr/>
        </p:nvSpPr>
        <p:spPr>
          <a:xfrm>
            <a:off x="380880" y="2362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ing Strateg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06"/>
          <p:cNvSpPr/>
          <p:nvPr/>
        </p:nvSpPr>
        <p:spPr>
          <a:xfrm>
            <a:off x="685800" y="426708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07"/>
          <p:cNvSpPr/>
          <p:nvPr/>
        </p:nvSpPr>
        <p:spPr>
          <a:xfrm>
            <a:off x="380880" y="5334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marizing Strateg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666880" y="1522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Title 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228600" y="533520"/>
            <a:ext cx="845820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s ADDDRE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28600" y="3200400"/>
            <a:ext cx="8458200" cy="3505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cep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iza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9:55:27Z</dcterms:created>
  <dc:creator>Nanci Smith</dc:creator>
  <dc:description/>
  <dc:language>en-US</dc:language>
  <cp:lastModifiedBy>WVDE</cp:lastModifiedBy>
  <dcterms:modified xsi:type="dcterms:W3CDTF">2008-09-22T18:43:16Z</dcterms:modified>
  <cp:revision>18</cp:revision>
  <dc:subject/>
  <dc:title>Slide 1</dc:title>
</cp:coreProperties>
</file>